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664D-8E0E-4F5B-A4E5-27F804D3B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24A9-1B2D-4FC3-8860-E26CA83E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B7FE-7CF3-4840-8138-3B06E958F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5879-D3B7-4549-9D74-917F8E618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88E3-869D-4016-BC62-25F1BDDA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066E-4784-4478-B8D4-5F1D69D9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060D-3436-431C-AD1B-CA05D47F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458D-2E8F-49C6-9F38-6303E34F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58E9-5648-4BB5-9A26-8558C071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E2E9-AEC7-4107-AE44-BE63B70D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6861-C6F5-4C28-B3DC-8732A004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F2FE-E64D-4D17-8994-89E181E0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DB39-29AE-4289-9892-953E5D998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611280" y="2205000"/>
          <a:ext cx="8137440" cy="396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05000"/>
                    <a:ext cx="813744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3:13:08Z</dcterms:created>
  <dc:creator>Подгородецкая Т.А.</dc:creator>
  <dc:description/>
  <dc:language>en-US</dc:language>
  <cp:lastModifiedBy>Подгородецкая Т.А.</cp:lastModifiedBy>
  <dcterms:modified xsi:type="dcterms:W3CDTF">2010-01-12T13:13:48Z</dcterms:modified>
  <cp:revision>2</cp:revision>
  <dc:subject/>
  <dc:title>Слайд 1</dc:title>
</cp:coreProperties>
</file>